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C824-825B-4D3C-84F0-4E9969A28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2F75-BB68-489C-9757-D435F1A4A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B4CC-0FB6-4F2B-98A6-652BEE172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B68E-879C-4CED-B770-94BD61DE5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3FA8-2593-4AEE-8AEA-8830B084A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2835-E8DA-4F36-989A-CDDDF7DDE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DE23-72B1-4A20-BC30-DD578C286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996F-3BE5-442C-B852-E0DCC12F5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92D6-2031-4DF3-832C-D3EF8957E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B458-F2CF-4B06-839D-395381B5C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172-34BB-414C-A3BB-E53EADBA6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AFE-8A6D-43CC-9DDF-1AB6EA45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57C-4D79-4162-980A-8AF29A1A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AED-602F-477A-8D10-5FD3DE6D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45E-7638-4972-BA23-7FFD1D85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ABA-BE15-4C45-916A-664A1D6F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6B7-B2F0-4730-B980-4BC84BA3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CFD-1617-420B-AC14-4F7FA228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681-4447-4FEA-8C28-554DB058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244-5092-4EFD-9F40-FDD20BD6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72C-D191-4649-BFC2-4BBF014B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FDC-AE48-4022-AF32-6F842515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259-6648-499D-8362-22DC9D8A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FE41-B3BD-42DE-8929-D65DB576C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nzel-ush.wikispaces.com/" TargetMode="External"/><Relationship Id="rId2" Type="http://schemas.openxmlformats.org/officeDocument/2006/relationships/hyperlink" Target="http://www.teacherease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 of the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johnnycash.jpg"/>
          <p:cNvPicPr/>
          <p:nvPr/>
        </p:nvPicPr>
        <p:blipFill>
          <a:blip r:embed="rId1"/>
          <a:stretch/>
        </p:blipFill>
        <p:spPr>
          <a:xfrm>
            <a:off x="533520" y="1676520"/>
            <a:ext cx="4410000" cy="4087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10080" y="167652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hnny Cas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ing of Fire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leased 196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Chapter 18 Sec 1 if you haven’t alre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Class Website and download the Progress Report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eacherEase and record your grade and any assignments that you are missing (if an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in to Mr. Frenzel by Mon. March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st 20 points you’ll ever 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renzel-ush.wikispaces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eacherease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gwallace.bmp"/>
          <p:cNvPicPr/>
          <p:nvPr/>
        </p:nvPicPr>
        <p:blipFill>
          <a:blip r:embed="rId1"/>
          <a:stretch/>
        </p:blipFill>
        <p:spPr>
          <a:xfrm>
            <a:off x="1143000" y="1523880"/>
            <a:ext cx="2705040" cy="169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jfkdallas.bmp"/>
          <p:cNvPicPr/>
          <p:nvPr/>
        </p:nvPicPr>
        <p:blipFill>
          <a:blip r:embed="rId2"/>
          <a:stretch/>
        </p:blipFill>
        <p:spPr>
          <a:xfrm>
            <a:off x="914400" y="3557520"/>
            <a:ext cx="4044960" cy="269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friedan1.jpg"/>
          <p:cNvPicPr/>
          <p:nvPr/>
        </p:nvPicPr>
        <p:blipFill>
          <a:blip r:embed="rId3"/>
          <a:stretch/>
        </p:blipFill>
        <p:spPr>
          <a:xfrm>
            <a:off x="5562720" y="1676520"/>
            <a:ext cx="167328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friedan2.jpg"/>
          <p:cNvPicPr/>
          <p:nvPr/>
        </p:nvPicPr>
        <p:blipFill>
          <a:blip r:embed="rId4"/>
          <a:stretch/>
        </p:blipFill>
        <p:spPr>
          <a:xfrm>
            <a:off x="7391520" y="1676520"/>
            <a:ext cx="1353960" cy="2179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7369200" y="442908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7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zip.jpg"/>
          <p:cNvPicPr/>
          <p:nvPr/>
        </p:nvPicPr>
        <p:blipFill>
          <a:blip r:embed="rId5"/>
          <a:stretch/>
        </p:blipFill>
        <p:spPr>
          <a:xfrm>
            <a:off x="5410080" y="4191120"/>
            <a:ext cx="1847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50’s Unit Test Top 5- Perio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1. Raquel Escalera – 102.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2. Kris Bolinger – 101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2. Jon Grossen – 101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4. Kasey Baker – 99.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5. Samantha Newcomb – 97.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50’s Unit Test Top 5 – Perio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. Audrey Avrit – 100.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. Elise Thompson – 10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. Colin Pederson – 99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. Trystan Thomas – 99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. Isabelle Eclevia – 98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otest Movements of the 1960’s and 1970’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3" descr="revolution.jpg"/>
          <p:cNvPicPr/>
          <p:nvPr/>
        </p:nvPicPr>
        <p:blipFill>
          <a:blip r:embed="rId1"/>
          <a:stretch/>
        </p:blipFill>
        <p:spPr>
          <a:xfrm>
            <a:off x="1066680" y="396252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women'srights.jpg"/>
          <p:cNvPicPr/>
          <p:nvPr/>
        </p:nvPicPr>
        <p:blipFill>
          <a:blip r:embed="rId2"/>
          <a:stretch/>
        </p:blipFill>
        <p:spPr>
          <a:xfrm>
            <a:off x="4724280" y="4125960"/>
            <a:ext cx="37562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 with a Part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some major protest movements that you have heard o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do you think that protest movements get star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 “civil right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sis In Levit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w would you have felt if you were the Myers family?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es it have matter if they were “put up to it” or if they moved in on their own?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communities have the right to decide who gets to live there, or should it be free to anyone who can afford to live there?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the black family can afford what the white families can afford, does that force them to reconsider their own social status?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you were the Myers family, would this have motivated you to speak out against segregation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al Movements: Major Assig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will be dividing into groups of three and developing a research paper and visual presentation for the cl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pics will be chosen on Wednes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one group per topic (have back-up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will receive two periods of class time to work on your assign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tations are due April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pers are due April 6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st Mo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social protest movements get star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ere some of the factors that led to the civil rights movem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sues would motivate you to join a protest movem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23:12:17Z</dcterms:created>
  <dc:creator>Rob</dc:creator>
  <dc:description/>
  <dc:language>en-US</dc:language>
  <cp:lastModifiedBy>mahluma</cp:lastModifiedBy>
  <dcterms:modified xsi:type="dcterms:W3CDTF">2012-03-20T23:05:19Z</dcterms:modified>
  <cp:revision>46</cp:revision>
  <dc:subject/>
  <dc:title>Slide 1</dc:title>
</cp:coreProperties>
</file>